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44E-6970-4D31-B09E-3F88F1FC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BA0-DCCC-4CB1-8490-FEB99133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38F-DE3D-4104-BA08-76F79017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2E2-93D6-4308-9CB5-B382B393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BC7B-6650-4228-BDEF-9CDFAF44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D87D-3CB2-46E0-8932-1ECFA3C6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6A83-FBDE-441A-B8A0-3D92E019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1DF9-07D3-4912-AB11-7146DF42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29CE-84FE-4157-B761-96FC8341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04F2-C164-4611-8145-F2746E71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73A5-4211-42DC-9B8A-B8A8C04E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F44-DE85-4C03-BFA0-8B7122C2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83E0-0FB3-466F-860E-C4EE4FE9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BD9D-A32E-48B6-A557-8D1FCA71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78B1-4841-4B21-8E0A-E75117E1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D851-AFFD-40C0-A1A2-7589B90C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70DA-63FF-4F4F-AC3D-B12B0C24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1E9-EDAE-47EC-B071-590D6BA9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64A-A261-4910-A1CE-C27E195A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030D-E7E4-436C-814A-FC983EEE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334E-514E-4158-A2E9-F8B91EE2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5DA-A829-465F-B4B4-24467EDF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995-E82F-4E3F-BF3B-4B93F2B1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CF2-66DD-4A54-8AFF-97ABA0B5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8A0A-2D89-42D0-BB6F-D6E94E295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A7EB-69C2-476C-A9FC-932292A0B5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otocol Revision Subcommitt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October 5,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PRR 080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Revised Wording of Protocol Section 3.1.5.1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828800"/>
          <a:ext cx="8229600" cy="44546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CNP, IOU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lows ERCOT to treat electrical buses as consequentially outaged transmission elements in the ERCOT outage schedu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ected to lower market costs by not requiring MPs to track and enter buses into the Outage Schedu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nodal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R/NPRR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572840"/>
            <a:ext cx="792468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Rs Recommended for Appro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R 731 – Fuel Oil Index Price (FO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R 733 – 168-Hour Generation Testing Requir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R 734 – Revisions to Congestion Management in McCamey Ar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NPRR 045 – Wind Power Foreca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NPRR 080 – Revised Wording of Protocol Section 3.1.5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R Noti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1120" y="157284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ithdraw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R 732 – Automatic Voltage Regulatory Status (AV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NPRR 074 – Revisions to Monitoring &amp; Qualification Tests in Section 8, Performance Monitoring &amp; Compli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j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R 737 – Direct Assignment of RPRS Costs (URG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1120" y="233172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 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n-System Changes – IA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 N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 Notices of Withdraw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 Notice of Re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731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Fuel Oil Index Price (FOIP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828800"/>
          <a:ext cx="8229600" cy="44546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TXU, IOU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ds definition for Fuel Oil Index Price (FOIP); allows use of FOIP to meet verifiable cost documentation requirem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lows compensation for fuel oil used to provide A/S and allows MPs to replace fuel oil quickly to maintain adequate system reliab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cember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731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Fuel Oil Index Price (FOP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3623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98800" y="2362320"/>
            <a:ext cx="187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inor cost impa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733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Remove 168-Hour Generation Testing Requirem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828800"/>
          <a:ext cx="8229600" cy="421020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moves 168 hour requirement and the need to use observed actual output in the first 168 hours if test data not provid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curately reflects ERCOT practice thus ensuring compli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1 opposed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cember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733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Remove 168-Hour Generation Testing Requirem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3623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34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Revisions to Congestion Management in McCamey Area Provis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828800"/>
          <a:ext cx="8229600" cy="40942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iminates the 0600 hour timeframe by which ERCOT must post Tradeable Generation Right limits; deletes requirements in 7.8.7, Trading or Other Uses of TG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cember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34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Revisions to Congestion Management in McCamey Area Provis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23623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PRR 045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Wind Power Forecasting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828800"/>
          <a:ext cx="8229600" cy="433080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Wind Coalitio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cribes process for developing 80% confidence level forecast for wind power generators; adds requirement to post rolling 48 hour actual wind power production and forecasted amou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vides a methodology for the 80% confidence lev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nodal implementation; Impacts included in Baseline 2 previous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KEG</cp:lastModifiedBy>
  <dcterms:modified xsi:type="dcterms:W3CDTF">2007-10-04T18:33:17Z</dcterms:modified>
  <cp:revision>169</cp:revision>
  <dc:subject/>
  <dc:title>Protocol Revision Subcommittee</dc:title>
</cp:coreProperties>
</file>